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8E1E-BC90-4A73-AD4E-473E1E4F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949-7D62-439C-96CA-E4489358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A96-341D-4C35-A896-FFF917DF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E97-9F1D-42A1-A38F-F8EBD653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607-1D84-4BBB-9E4C-31486C57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C06-B361-4A6C-B20C-B31F8B32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A23-7651-46AE-A11C-BFE40DBA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BF9-DFCD-42AD-A89D-A3BC9168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76A-286A-4937-9FC2-EE6965FA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A5E1-8CA6-47EF-8E64-9240A02A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263-1484-4E8B-8AD2-7892E68A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B7AC-D701-4316-BEE8-21B75808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1C8C-FC29-4A5A-AE2F-3FA921681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0"/>
            <a:ext cx="1257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Marvelous Magical Magne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agnetattractx" descr=""/>
          <p:cNvPicPr/>
          <p:nvPr/>
        </p:nvPicPr>
        <p:blipFill>
          <a:blip r:embed="rId1"/>
          <a:stretch/>
        </p:blipFill>
        <p:spPr>
          <a:xfrm>
            <a:off x="361800" y="1066680"/>
            <a:ext cx="8782200" cy="4695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14600" y="5921280"/>
            <a:ext cx="451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ated by Lisa Gib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255888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. repel (push apart)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329360" y="604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560" y="1216080"/>
            <a:ext cx="79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magnets with unlike poles wi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6120" y="3502080"/>
            <a:ext cx="56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  attract (pull togeth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5760" y="4416480"/>
            <a:ext cx="481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  repel (push apar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7800" y="2558880"/>
            <a:ext cx="853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.  attract (pull together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160880" y="1522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79440" y="1521000"/>
            <a:ext cx="610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asses always point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dire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26280" y="3641760"/>
            <a:ext cx="222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  No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9400" y="4264200"/>
            <a:ext cx="185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  E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70840" y="4873680"/>
            <a:ext cx="21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.  So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6800" y="5470560"/>
            <a:ext cx="202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. 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91280" y="2406600"/>
            <a:ext cx="3557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.  Nort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53040" y="-324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90440" y="1444680"/>
            <a:ext cx="675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pace around a magnet 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led its 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05840" y="3044880"/>
            <a:ext cx="398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  electrical f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22040" y="3959280"/>
            <a:ext cx="37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  baseball f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23480" y="487368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.  magnetic f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2320" y="2482920"/>
            <a:ext cx="646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C.  magnetic fiel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176720" y="730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0240" y="1901880"/>
            <a:ext cx="730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gnets will only be attract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bjects that have this in t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5880" y="3654360"/>
            <a:ext cx="211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  sil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6240" y="4264200"/>
            <a:ext cx="239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  cop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6240" y="4873680"/>
            <a:ext cx="18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.  i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6240" y="5407200"/>
            <a:ext cx="185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.  g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35880" y="2406600"/>
            <a:ext cx="290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C.  ir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100760" y="-1584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0920" y="197820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gnets can even work in wa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4640" y="3730680"/>
            <a:ext cx="182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  tr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5680" y="4492800"/>
            <a:ext cx="188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  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304920"/>
            <a:ext cx="8382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gnets are everywhere!  They are          in ships, airplanes, trains, games, refrigerators, and cabinet doo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lanefly" descr=""/>
          <p:cNvPicPr/>
          <p:nvPr/>
        </p:nvPicPr>
        <p:blipFill>
          <a:blip r:embed="rId1"/>
          <a:stretch/>
        </p:blipFill>
        <p:spPr>
          <a:xfrm>
            <a:off x="2057400" y="3597120"/>
            <a:ext cx="438948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808720" y="2573280"/>
            <a:ext cx="29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.  tr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7960" y="2057400"/>
            <a:ext cx="867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are now an expert on magnet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2720" y="272880"/>
            <a:ext cx="62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ator" descr=""/>
          <p:cNvPicPr/>
          <p:nvPr/>
        </p:nvPicPr>
        <p:blipFill>
          <a:blip r:embed="rId1"/>
          <a:stretch/>
        </p:blipFill>
        <p:spPr>
          <a:xfrm>
            <a:off x="2625840" y="3048120"/>
            <a:ext cx="2982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555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gnets come in all shapes and siz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agnetcircle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2057400" cy="198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47000" y="338292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agnetflat" descr=""/>
          <p:cNvPicPr/>
          <p:nvPr/>
        </p:nvPicPr>
        <p:blipFill>
          <a:blip r:embed="rId2"/>
          <a:srcRect l="2802" t="0" r="0" b="4904"/>
          <a:stretch/>
        </p:blipFill>
        <p:spPr>
          <a:xfrm>
            <a:off x="6324480" y="1523880"/>
            <a:ext cx="2367000" cy="2319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155360" y="396252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agnetskinyhorseshoe" descr=""/>
          <p:cNvPicPr/>
          <p:nvPr/>
        </p:nvPicPr>
        <p:blipFill>
          <a:blip r:embed="rId3"/>
          <a:srcRect l="0" t="0" r="7178" b="6434"/>
          <a:stretch/>
        </p:blipFill>
        <p:spPr>
          <a:xfrm>
            <a:off x="685800" y="4267080"/>
            <a:ext cx="1905120" cy="1608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6160" y="583416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sh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agnetlgbar" descr=""/>
          <p:cNvPicPr/>
          <p:nvPr/>
        </p:nvPicPr>
        <p:blipFill>
          <a:blip r:embed="rId4"/>
          <a:stretch/>
        </p:blipFill>
        <p:spPr>
          <a:xfrm>
            <a:off x="3048120" y="2674800"/>
            <a:ext cx="2971800" cy="2313000"/>
          </a:xfrm>
          <a:prstGeom prst="rect">
            <a:avLst/>
          </a:prstGeom>
          <a:ln w="0">
            <a:noFill/>
          </a:ln>
        </p:spPr>
      </p:pic>
      <p:pic>
        <p:nvPicPr>
          <p:cNvPr id="55" name="magnetrod" descr=""/>
          <p:cNvPicPr/>
          <p:nvPr/>
        </p:nvPicPr>
        <p:blipFill>
          <a:blip r:embed="rId5"/>
          <a:stretch/>
        </p:blipFill>
        <p:spPr>
          <a:xfrm>
            <a:off x="4648320" y="5553000"/>
            <a:ext cx="4267080" cy="771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709160" y="42861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93520" y="62485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7960" y="2162160"/>
            <a:ext cx="786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Let’s see what you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know about magnet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4572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523880"/>
            <a:ext cx="990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gnets not only pull things, but they                    can also push things aw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8560" y="3537000"/>
            <a:ext cx="182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  tr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56720" y="4721400"/>
            <a:ext cx="188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  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19520" y="2271600"/>
            <a:ext cx="34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A.  tru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329360" y="-324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6440" y="1596960"/>
            <a:ext cx="767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Earth is one big giant magn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78400" y="3352680"/>
            <a:ext cx="182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  tr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3800" y="4327560"/>
            <a:ext cx="188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  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00760" y="2500200"/>
            <a:ext cx="29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.  tr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253040" y="-7920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54360" y="987480"/>
            <a:ext cx="734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magnets with like poles wi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 each 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1200" y="3425760"/>
            <a:ext cx="56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  attract (pull togeth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0" y="4568760"/>
            <a:ext cx="481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  repel (push apar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4T13:40:38Z</dcterms:created>
  <dc:creator>Jefferson County Schools</dc:creator>
  <dc:description/>
  <dc:language>en-US</dc:language>
  <cp:lastModifiedBy>Jefferson County Schools</cp:lastModifiedBy>
  <dcterms:modified xsi:type="dcterms:W3CDTF">1999-12-06T12:31:18Z</dcterms:modified>
  <cp:revision>5</cp:revision>
  <dc:subject/>
  <dc:title>PowerPoint Presentation</dc:title>
</cp:coreProperties>
</file>